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350-0DC6-4F0C-A71A-87F13F2F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CBC-218B-4CF6-8747-5796B370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22E-9AAB-4D88-91CF-59A9DDC2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859-C09A-41B1-9674-E5A7D5E6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C35-F7B6-4270-980D-9E4818F2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F6E-4B41-45EA-8F26-9B6904A8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D38-5133-4094-9374-4AEC723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9B9-3124-4048-9A3A-721B2CF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073-E4FC-418D-95FC-FC6F5EC2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281-9CC5-411D-841B-9FBE726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806-2876-43CA-8A83-B4F0E94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61C-D9BB-457D-BF32-36D2505B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287-46B4-4B59-A0D8-3B79EA3A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743200" y="-1143000"/>
            <a:ext cx="146304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3:19:43Z</dcterms:created>
  <dc:creator>Preferred Customer</dc:creator>
  <dc:description/>
  <dc:language>en-US</dc:language>
  <cp:lastModifiedBy>Preferred Customer</cp:lastModifiedBy>
  <dcterms:modified xsi:type="dcterms:W3CDTF">2009-05-03T23:20:05Z</dcterms:modified>
  <cp:revision>1</cp:revision>
  <dc:subject/>
  <dc:title>Slide 1</dc:title>
</cp:coreProperties>
</file>